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4.png" ContentType="image/png"/>
  <Override PartName="/ppt/media/image11.jpeg" ContentType="image/jpeg"/>
  <Override PartName="/ppt/media/image30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4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35.png" ContentType="image/png"/>
  <Override PartName="/ppt/media/image6.wmf" ContentType="image/x-wmf"/>
  <Override PartName="/ppt/media/image36.png" ContentType="image/png"/>
  <Override PartName="/ppt/media/image37.png" ContentType="image/png"/>
  <Override PartName="/ppt/media/image39.png" ContentType="image/png"/>
  <Override PartName="/ppt/media/image5.wmf" ContentType="image/x-wmf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move the slid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C6EF0E-50F8-4DC0-A7B2-C04DC0B44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85AD5C-5C5E-4544-A6C6-D6532970C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47640" y="4989240"/>
            <a:ext cx="576576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ADDF1E-16BF-40ED-9F76-E3BA6EC51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47640" y="4989240"/>
            <a:ext cx="576576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C85133-A8A7-47CE-A055-83008E15A1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3FB751-95E9-44FF-9D98-B5E3B82BE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A1B1CE-CAA6-4680-85F0-3082EC676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BAEB9A-DE1B-4B6D-9957-EE794F8D19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DF80F2-A042-4D39-9E60-6CB17529C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159D2B-4528-4CF4-8A0B-5171024F0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54F383-AF43-4F71-867E-0ECCBF6B8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0C0DE0-61FC-4740-8FBF-913DA3958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F775A6-D752-43DD-9B67-3225B72A1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8ACEB7-AC53-419D-A689-AFF132212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C10E31-B18E-4874-AC49-988B6E0F3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E16CC1-E718-4CBF-A539-616AEA888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7664AC-6805-4ADE-86F0-9AA260603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390AC5-1C82-4E32-B3FD-C9D4B64323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ADD02B-73EF-45E9-9DB2-EFDD20955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0AFD3E-3842-4D6D-9D13-9FB41CD8E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42B5BA-9498-4EF0-87BF-352B06401A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5BB2-2DFC-436E-8C69-655853983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264F-A4AF-4C1F-BECD-92FFDEB67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E5B12-8FEF-4F83-81B4-F4AEF1CD6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B652-CAD6-45A8-A478-828F3BB17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819A-D3EA-4DA2-821E-006D2EC85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C6BFB-B0AE-4E2B-B1F0-1B037AA55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FEAA7-E237-481F-AE0D-FEAE9F03C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0B281-CBA6-410D-B6D4-B518A698A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C410-59D9-4C64-8F95-9F3832E9D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C6DC-FF2A-4B3D-AEEB-83203ACB7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157F-7142-4A65-BC9B-91542B057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070F-073F-4630-B946-27C1FAF19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743040" indent="-28584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3" marL="16002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"/>
          <p:cNvSpPr/>
          <p:nvPr/>
        </p:nvSpPr>
        <p:spPr>
          <a:xfrm>
            <a:off x="4572000" y="6629400"/>
            <a:ext cx="4572000" cy="14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0" cy="1526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200400" y="6498720"/>
            <a:ext cx="1371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1AD4-568B-45B0-912F-05B369DD2EED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"/>
          <p:cNvSpPr/>
          <p:nvPr/>
        </p:nvSpPr>
        <p:spPr>
          <a:xfrm>
            <a:off x="3957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223920" y="5638680"/>
            <a:ext cx="69048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6781680"/>
            <a:ext cx="8991720" cy="7632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781680"/>
            <a:ext cx="1752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0"/>
            <a:ext cx="739152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75248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109880" cy="1219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816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96080" y="357120"/>
            <a:ext cx="1218960" cy="1244160"/>
            <a:chOff x="7696080" y="357120"/>
            <a:chExt cx="1218960" cy="124416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7783200" y="357120"/>
              <a:ext cx="105948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696080" y="120276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Integration is 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Our Business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600" spc="-1" strike="noStrike">
              <a:solidFill>
                <a:srgbClr val="808080"/>
              </a:solidFill>
              <a:latin typeface="CG Omega"/>
            </a:endParaRPr>
          </a:p>
          <a:p>
            <a:pPr lvl="2" marL="914400" algn="ctr">
              <a:spcBef>
                <a:spcPts val="575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hyperlink" Target="http://www.thieme.de/chemistry/synthesis/index.html" TargetMode="External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21337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121"/>
                </a:solidFill>
                <a:latin typeface="CG Omega"/>
              </a:rPr>
              <a:t>MDL Patent Chemistry Database</a:t>
            </a:r>
            <a:endParaRPr b="0" lang="en-US" sz="3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53376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A new end-user database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for more effective synthesis planning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and better bioactivity profiling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56092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Presented by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Eva Seip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Titl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Senior Product Manager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Dat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1-November-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295280"/>
            <a:ext cx="85345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505320"/>
            <a:ext cx="2590560" cy="15112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rkush Reactions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3" name=""/>
          <p:cNvSpPr/>
          <p:nvPr/>
        </p:nvSpPr>
        <p:spPr>
          <a:xfrm>
            <a:off x="6172200" y="3505320"/>
            <a:ext cx="2349360" cy="151128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arkush Structure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Bioactivity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Application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Physical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2743200"/>
            <a:ext cx="2590560" cy="5335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ac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2743200"/>
            <a:ext cx="236232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ubstance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8" name=""/>
          <p:cNvSpPr/>
          <p:nvPr/>
        </p:nvSpPr>
        <p:spPr>
          <a:xfrm>
            <a:off x="739152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895480" y="5257440"/>
            <a:ext cx="4343400" cy="228960"/>
            <a:chOff x="2895480" y="5257440"/>
            <a:chExt cx="4343400" cy="228960"/>
          </a:xfrm>
        </p:grpSpPr>
        <p:sp>
          <p:nvSpPr>
            <p:cNvPr id="190" name=""/>
            <p:cNvSpPr/>
            <p:nvPr/>
          </p:nvSpPr>
          <p:spPr>
            <a:xfrm>
              <a:off x="2895480" y="5486400"/>
              <a:ext cx="43434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238880" y="525744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895480" y="5219640"/>
            <a:ext cx="1524240" cy="1181160"/>
            <a:chOff x="2895480" y="5219640"/>
            <a:chExt cx="1524240" cy="1181160"/>
          </a:xfrm>
        </p:grpSpPr>
        <p:sp>
          <p:nvSpPr>
            <p:cNvPr id="193" name=""/>
            <p:cNvSpPr/>
            <p:nvPr/>
          </p:nvSpPr>
          <p:spPr>
            <a:xfrm>
              <a:off x="2895480" y="6400800"/>
              <a:ext cx="1524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4197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172200" y="5880240"/>
            <a:ext cx="236232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48320" y="5219640"/>
            <a:ext cx="1523880" cy="1181160"/>
            <a:chOff x="4648320" y="5219640"/>
            <a:chExt cx="1523880" cy="1181160"/>
          </a:xfrm>
        </p:grpSpPr>
        <p:sp>
          <p:nvSpPr>
            <p:cNvPr id="198" name=""/>
            <p:cNvSpPr/>
            <p:nvPr/>
          </p:nvSpPr>
          <p:spPr>
            <a:xfrm flipV="1">
              <a:off x="46609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6609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8320" y="6400800"/>
              <a:ext cx="15238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217520" y="533520"/>
            <a:ext cx="823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Database Design – Three “Contexts”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219320"/>
            <a:ext cx="80010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tent Document [XML, SGML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rontpage, Claims, Markush Structures, Example Text, Substance Properti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505320"/>
            <a:ext cx="2286000" cy="151128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Frontpage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[BIB TIT ABS CIT]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755800"/>
            <a:ext cx="2286000" cy="5335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ita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5" name=""/>
          <p:cNvSpPr/>
          <p:nvPr/>
        </p:nvSpPr>
        <p:spPr>
          <a:xfrm>
            <a:off x="622440" y="5880240"/>
            <a:ext cx="226044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81480"/>
            <a:ext cx="228600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7" name=""/>
          <p:cNvSpPr/>
          <p:nvPr/>
        </p:nvSpPr>
        <p:spPr>
          <a:xfrm>
            <a:off x="7089120" y="545472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For PY&gt;=Dec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B59E4-FD25-43F9-BF87-68675D8EAD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9" name=""/>
          <p:cNvSpPr/>
          <p:nvPr/>
        </p:nvSpPr>
        <p:spPr>
          <a:xfrm>
            <a:off x="1386000" y="1441440"/>
            <a:ext cx="781344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Database Content: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t release: approx. 340,000 Patent Cita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ticipated Growth:  35,000 Patents / 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2"/>
                </a:solidFill>
                <a:latin typeface="CG Omega"/>
              </a:rPr>
              <a:t>Your Benefits: Easy Relevance Check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Without time consuming access to original patent document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Full claims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together with display of main Markush* structures and main Markush* Reactions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Expanded Markush* Structure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with full substituent lis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Referencing Compounds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- 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View compounds being a representative of a Markush* structure in a patent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ita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1" name=""/>
          <p:cNvSpPr/>
          <p:nvPr/>
        </p:nvSpPr>
        <p:spPr>
          <a:xfrm>
            <a:off x="2725560" y="630252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FCEF-861C-4ABB-9A45-E60D2C70825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0880" y="1523880"/>
            <a:ext cx="8305920" cy="4800600"/>
            <a:chOff x="380880" y="1523880"/>
            <a:chExt cx="8305920" cy="480060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rcRect l="19148" t="27854" r="0" b="5207"/>
            <a:stretch/>
          </p:blipFill>
          <p:spPr>
            <a:xfrm>
              <a:off x="380880" y="1579680"/>
              <a:ext cx="8244000" cy="47052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rcRect l="24146" t="27302" r="783" b="68539"/>
            <a:stretch/>
          </p:blipFill>
          <p:spPr>
            <a:xfrm>
              <a:off x="380880" y="1523880"/>
              <a:ext cx="8153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3"/>
            <a:srcRect l="24146" t="43850" r="0" b="53128"/>
            <a:stretch/>
          </p:blipFill>
          <p:spPr>
            <a:xfrm>
              <a:off x="380880" y="4098960"/>
              <a:ext cx="81536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80880" y="1600200"/>
              <a:ext cx="8305920" cy="4724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0880" y="2666880"/>
            <a:ext cx="8305920" cy="95436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9" name=""/>
          <p:cNvSpPr/>
          <p:nvPr/>
        </p:nvSpPr>
        <p:spPr>
          <a:xfrm>
            <a:off x="7331040" y="2666880"/>
            <a:ext cx="1373400" cy="35676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Claim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0" name=""/>
          <p:cNvSpPr/>
          <p:nvPr/>
        </p:nvSpPr>
        <p:spPr>
          <a:xfrm>
            <a:off x="7468920" y="5346720"/>
            <a:ext cx="1251360" cy="90540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Markush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Display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092480"/>
            <a:ext cx="8305920" cy="2232000"/>
          </a:xfrm>
          <a:prstGeom prst="rect">
            <a:avLst/>
          </a:prstGeom>
          <a:noFill/>
          <a:ln w="1908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2" name=""/>
          <p:cNvSpPr/>
          <p:nvPr/>
        </p:nvSpPr>
        <p:spPr>
          <a:xfrm>
            <a:off x="885600" y="152280"/>
            <a:ext cx="8009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aim &amp; Markush Structures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    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o explore fast scope of paten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3" name=""/>
          <p:cNvSpPr/>
          <p:nvPr/>
        </p:nvSpPr>
        <p:spPr>
          <a:xfrm>
            <a:off x="2293560" y="63784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3F1D-BD2D-44BA-9DEF-4CFAD2AEA0F0}" type="slidenum">
              <a:t>12</a:t>
            </a:fld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304920" y="1447920"/>
            <a:ext cx="8534160" cy="3965400"/>
            <a:chOff x="304920" y="1447920"/>
            <a:chExt cx="8534160" cy="3965400"/>
          </a:xfrm>
        </p:grpSpPr>
        <p:grpSp>
          <p:nvGrpSpPr>
            <p:cNvPr id="225" name=""/>
            <p:cNvGrpSpPr/>
            <p:nvPr/>
          </p:nvGrpSpPr>
          <p:grpSpPr>
            <a:xfrm>
              <a:off x="304920" y="1457280"/>
              <a:ext cx="8534160" cy="3956040"/>
              <a:chOff x="304920" y="1457280"/>
              <a:chExt cx="8534160" cy="3956040"/>
            </a:xfrm>
          </p:grpSpPr>
          <p:pic>
            <p:nvPicPr>
              <p:cNvPr id="226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53360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45728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8" name=""/>
            <p:cNvSpPr/>
            <p:nvPr/>
          </p:nvSpPr>
          <p:spPr>
            <a:xfrm>
              <a:off x="304920" y="144792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04920" y="4952880"/>
            <a:ext cx="3657240" cy="403200"/>
            <a:chOff x="304920" y="4952880"/>
            <a:chExt cx="3657240" cy="403200"/>
          </a:xfrm>
        </p:grpSpPr>
        <p:sp>
          <p:nvSpPr>
            <p:cNvPr id="230" name=""/>
            <p:cNvSpPr/>
            <p:nvPr/>
          </p:nvSpPr>
          <p:spPr>
            <a:xfrm>
              <a:off x="304920" y="4952880"/>
              <a:ext cx="2103120" cy="4032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08040" y="5154480"/>
              <a:ext cx="1554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3"/>
          <a:srcRect l="32031" t="12005" r="17970" b="17901"/>
          <a:stretch/>
        </p:blipFill>
        <p:spPr>
          <a:xfrm>
            <a:off x="4675320" y="1311120"/>
            <a:ext cx="4240080" cy="4327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6423480" y="4800600"/>
            <a:ext cx="2426400" cy="63108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Generic Symbols as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written in Full-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4" name=""/>
          <p:cNvSpPr/>
          <p:nvPr/>
        </p:nvSpPr>
        <p:spPr>
          <a:xfrm>
            <a:off x="919080" y="496800"/>
            <a:ext cx="86565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Highlight:   Expanded Markush Structure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5" name=""/>
          <p:cNvSpPr/>
          <p:nvPr/>
        </p:nvSpPr>
        <p:spPr>
          <a:xfrm>
            <a:off x="2293560" y="61498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A997-D644-47B5-80A5-42E7B72168E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04920" y="1523880"/>
            <a:ext cx="8534160" cy="3965400"/>
            <a:chOff x="304920" y="1523880"/>
            <a:chExt cx="8534160" cy="3965400"/>
          </a:xfrm>
        </p:grpSpPr>
        <p:grpSp>
          <p:nvGrpSpPr>
            <p:cNvPr id="237" name=""/>
            <p:cNvGrpSpPr/>
            <p:nvPr/>
          </p:nvGrpSpPr>
          <p:grpSpPr>
            <a:xfrm>
              <a:off x="304920" y="1533240"/>
              <a:ext cx="8534160" cy="3956040"/>
              <a:chOff x="304920" y="1533240"/>
              <a:chExt cx="8534160" cy="39560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60956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53324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"/>
            <p:cNvSpPr/>
            <p:nvPr/>
          </p:nvSpPr>
          <p:spPr>
            <a:xfrm>
              <a:off x="304920" y="152388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04920" y="2895480"/>
            <a:ext cx="4495320" cy="237960"/>
            <a:chOff x="304920" y="2895480"/>
            <a:chExt cx="4495320" cy="237960"/>
          </a:xfrm>
        </p:grpSpPr>
        <p:sp>
          <p:nvSpPr>
            <p:cNvPr id="242" name=""/>
            <p:cNvSpPr/>
            <p:nvPr/>
          </p:nvSpPr>
          <p:spPr>
            <a:xfrm>
              <a:off x="304920" y="2895480"/>
              <a:ext cx="2644200" cy="23796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49120" y="3006720"/>
              <a:ext cx="1851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887760" y="228600"/>
            <a:ext cx="86259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Defined Substances related to Markush* -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938840" y="1401840"/>
            <a:ext cx="4052880" cy="3703680"/>
            <a:chOff x="4938840" y="1401840"/>
            <a:chExt cx="4052880" cy="370368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rcRect l="19532" t="14584" r="2344" b="7294"/>
            <a:stretch/>
          </p:blipFill>
          <p:spPr>
            <a:xfrm>
              <a:off x="4973760" y="2179800"/>
              <a:ext cx="4017960" cy="2925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247" name=""/>
            <p:cNvSpPr/>
            <p:nvPr/>
          </p:nvSpPr>
          <p:spPr>
            <a:xfrm>
              <a:off x="4938840" y="1401840"/>
              <a:ext cx="4052880" cy="1087920"/>
            </a:xfrm>
            <a:prstGeom prst="rect">
              <a:avLst/>
            </a:prstGeom>
            <a:solidFill>
              <a:srgbClr val="ff9121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Representatives of the given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Markush Structure: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409480" y="61498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8792C-8802-4199-A814-E1145F504BA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219320"/>
            <a:ext cx="7813800" cy="69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82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Approx. 1.5 M reactions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(structure-searchable;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1976 onward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 ~ 500,000 reaction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37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938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Your Benefit:   More Effective Synthesis Planning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Complete Reaction Descriptions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Immediately reproduce chemistry without the need to order the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InfoChem ClassCod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Similar reactions get same class code (15-digit number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ll MDL reaction db’s are classified with ClassCod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ind Similar Reactions in same/other MDL databas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Grouping of similar 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Markush Reaction Display*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Explore the scope of patent coverage and reaction scop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1" name=""/>
          <p:cNvSpPr/>
          <p:nvPr/>
        </p:nvSpPr>
        <p:spPr>
          <a:xfrm>
            <a:off x="2725560" y="6477120"/>
            <a:ext cx="6480720" cy="3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Reac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CF42-26D3-45B8-8B93-04C199EE1B2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28600" y="243000"/>
            <a:ext cx="8686800" cy="4938480"/>
            <a:chOff x="228600" y="243000"/>
            <a:chExt cx="8686800" cy="493848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rcRect l="24999" t="35049" r="3895" b="29187"/>
            <a:stretch/>
          </p:blipFill>
          <p:spPr>
            <a:xfrm>
              <a:off x="228600" y="1905120"/>
              <a:ext cx="8686800" cy="32763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255" name="" descr=""/>
            <p:cNvPicPr/>
            <p:nvPr/>
          </p:nvPicPr>
          <p:blipFill>
            <a:blip r:embed="rId2"/>
            <a:srcRect l="25003" t="29064" r="37056" b="8333"/>
            <a:stretch/>
          </p:blipFill>
          <p:spPr>
            <a:xfrm>
              <a:off x="6324480" y="243000"/>
              <a:ext cx="2590920" cy="2347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256" name=""/>
          <p:cNvSpPr/>
          <p:nvPr/>
        </p:nvSpPr>
        <p:spPr>
          <a:xfrm>
            <a:off x="1114200" y="573120"/>
            <a:ext cx="3880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erimental Tex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600200" y="2362320"/>
            <a:ext cx="1600200" cy="152280"/>
            <a:chOff x="1600200" y="2362320"/>
            <a:chExt cx="1600200" cy="152280"/>
          </a:xfrm>
        </p:grpSpPr>
        <p:sp>
          <p:nvSpPr>
            <p:cNvPr id="258" name=""/>
            <p:cNvSpPr/>
            <p:nvPr/>
          </p:nvSpPr>
          <p:spPr>
            <a:xfrm>
              <a:off x="2133720" y="2362320"/>
              <a:ext cx="1066680" cy="1522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0200" y="24382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600200" y="2514600"/>
            <a:ext cx="4648320" cy="228600"/>
            <a:chOff x="1600200" y="2514600"/>
            <a:chExt cx="4648320" cy="228600"/>
          </a:xfrm>
        </p:grpSpPr>
        <p:sp>
          <p:nvSpPr>
            <p:cNvPr id="261" name=""/>
            <p:cNvSpPr/>
            <p:nvPr/>
          </p:nvSpPr>
          <p:spPr>
            <a:xfrm>
              <a:off x="2133720" y="2514600"/>
              <a:ext cx="4114800" cy="228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26668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600200" y="2743200"/>
            <a:ext cx="7315200" cy="1828800"/>
            <a:chOff x="1600200" y="2743200"/>
            <a:chExt cx="7315200" cy="1828800"/>
          </a:xfrm>
        </p:grpSpPr>
        <p:sp>
          <p:nvSpPr>
            <p:cNvPr id="264" name=""/>
            <p:cNvSpPr/>
            <p:nvPr/>
          </p:nvSpPr>
          <p:spPr>
            <a:xfrm>
              <a:off x="2133720" y="2743200"/>
              <a:ext cx="6781680" cy="18288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0200" y="34290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600200" y="4572000"/>
            <a:ext cx="7315200" cy="609480"/>
            <a:chOff x="1600200" y="4572000"/>
            <a:chExt cx="7315200" cy="609480"/>
          </a:xfrm>
        </p:grpSpPr>
        <p:sp>
          <p:nvSpPr>
            <p:cNvPr id="267" name=""/>
            <p:cNvSpPr/>
            <p:nvPr/>
          </p:nvSpPr>
          <p:spPr>
            <a:xfrm>
              <a:off x="2133720" y="4572000"/>
              <a:ext cx="6781680" cy="6094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00200" y="48006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2438280"/>
            <a:ext cx="5007600" cy="5638320"/>
            <a:chOff x="1600200" y="2438280"/>
            <a:chExt cx="5007600" cy="5638320"/>
          </a:xfrm>
        </p:grpSpPr>
        <p:grpSp>
          <p:nvGrpSpPr>
            <p:cNvPr id="270" name=""/>
            <p:cNvGrpSpPr/>
            <p:nvPr/>
          </p:nvGrpSpPr>
          <p:grpSpPr>
            <a:xfrm>
              <a:off x="3522240" y="5332320"/>
              <a:ext cx="3085560" cy="2744280"/>
              <a:chOff x="3522240" y="5332320"/>
              <a:chExt cx="3085560" cy="2744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3522240" y="5332320"/>
                <a:ext cx="3085560" cy="2744280"/>
                <a:chOff x="3522240" y="5332320"/>
                <a:chExt cx="3085560" cy="27442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522240" y="5332320"/>
                  <a:ext cx="3085560" cy="1454040"/>
                </a:xfrm>
                <a:prstGeom prst="rect">
                  <a:avLst/>
                </a:prstGeom>
                <a:solidFill>
                  <a:srgbClr val="ff9121"/>
                </a:solidFill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 marL="255600" indent="-255600"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 u="sng">
                      <a:solidFill>
                        <a:srgbClr val="ffffff"/>
                      </a:solidFill>
                      <a:uFillTx/>
                      <a:latin typeface="CG Omega"/>
                    </a:rPr>
                    <a:t>Easy relevance check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N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itle 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Spectral Data (Product)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5127120" y="7606080"/>
                  <a:ext cx="0" cy="470520"/>
                </a:xfrm>
                <a:prstGeom prst="line">
                  <a:avLst/>
                </a:prstGeom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1600200" y="2438280"/>
              <a:ext cx="0" cy="365760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00200" y="6095880"/>
              <a:ext cx="19810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7ABC-170C-4D72-8F43-2749CEE784F6}" type="slidenum">
              <a:t>16</a:t>
            </a:fld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InfoChem Reaction Classification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76320" y="2201760"/>
            <a:ext cx="9143640" cy="3360600"/>
            <a:chOff x="-76320" y="2201760"/>
            <a:chExt cx="9143640" cy="3360600"/>
          </a:xfrm>
        </p:grpSpPr>
        <p:sp>
          <p:nvSpPr>
            <p:cNvPr id="280" name=""/>
            <p:cNvSpPr/>
            <p:nvPr/>
          </p:nvSpPr>
          <p:spPr>
            <a:xfrm>
              <a:off x="4114440" y="4444920"/>
              <a:ext cx="4952880" cy="11174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Narrow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Reaction centers and alpha + beta atoms and bond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7360" y="4444920"/>
              <a:ext cx="399672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440" y="3319200"/>
              <a:ext cx="4952880" cy="112572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Medium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Reaction centers and alpha atoms 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and bond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7360" y="3319200"/>
              <a:ext cx="399672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14440" y="2201760"/>
              <a:ext cx="4952880" cy="11174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Broad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Only reaction center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7360" y="2201760"/>
              <a:ext cx="399672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7360" y="2201760"/>
              <a:ext cx="894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7360" y="3319200"/>
              <a:ext cx="894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7360" y="4444920"/>
              <a:ext cx="894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7360" y="5562360"/>
              <a:ext cx="894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360" y="2201760"/>
              <a:ext cx="0" cy="336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14440" y="2201760"/>
              <a:ext cx="0" cy="336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67320" y="2201760"/>
              <a:ext cx="0" cy="336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aphicFrame>
          <p:nvGraphicFramePr>
            <p:cNvPr id="293" name=""/>
            <p:cNvGraphicFramePr/>
            <p:nvPr/>
          </p:nvGraphicFramePr>
          <p:xfrm>
            <a:off x="-59760" y="2274840"/>
            <a:ext cx="4292280" cy="91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9760" y="2274840"/>
                      <a:ext cx="4292280" cy="9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"/>
            <p:cNvGraphicFramePr/>
            <p:nvPr/>
          </p:nvGraphicFramePr>
          <p:xfrm>
            <a:off x="-26280" y="3435120"/>
            <a:ext cx="42919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26280" y="3435120"/>
                      <a:ext cx="42919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"/>
            <p:cNvGraphicFramePr/>
            <p:nvPr/>
          </p:nvGraphicFramePr>
          <p:xfrm>
            <a:off x="-76320" y="4506840"/>
            <a:ext cx="4291920" cy="97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-76320" y="4506840"/>
                      <a:ext cx="42919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9" name=""/>
          <p:cNvSpPr/>
          <p:nvPr/>
        </p:nvSpPr>
        <p:spPr>
          <a:xfrm>
            <a:off x="76320" y="1295280"/>
            <a:ext cx="908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All MDL reaction databases are indexed with InfoChem ClassCod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Similar Reactions have same ClassCode in different databases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00" name=""/>
          <p:cNvSpPr/>
          <p:nvPr/>
        </p:nvSpPr>
        <p:spPr>
          <a:xfrm>
            <a:off x="720360" y="5791320"/>
            <a:ext cx="85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Three levels of reaction similarity: Broad, Medium, Narrow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3A141-1F21-4A7E-A7E1-B12A1DBF16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rcRect l="30265" t="13763" r="8257" b="61623"/>
          <a:stretch/>
        </p:blipFill>
        <p:spPr>
          <a:xfrm>
            <a:off x="277920" y="1268280"/>
            <a:ext cx="5495760" cy="18003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302" name=""/>
          <p:cNvSpPr/>
          <p:nvPr/>
        </p:nvSpPr>
        <p:spPr>
          <a:xfrm>
            <a:off x="298440" y="2924280"/>
            <a:ext cx="2216160" cy="1998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19111" r="0" b="25830"/>
          <a:stretch/>
        </p:blipFill>
        <p:spPr>
          <a:xfrm>
            <a:off x="1039680" y="4127400"/>
            <a:ext cx="6915240" cy="2654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4724280" y="1216080"/>
            <a:ext cx="4280040" cy="3660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14600" y="2971800"/>
            <a:ext cx="144000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000640" y="4495680"/>
            <a:ext cx="649800" cy="1096920"/>
            <a:chOff x="8000640" y="4495680"/>
            <a:chExt cx="649800" cy="1096920"/>
          </a:xfrm>
        </p:grpSpPr>
        <p:sp>
          <p:nvSpPr>
            <p:cNvPr id="307" name=""/>
            <p:cNvSpPr/>
            <p:nvPr/>
          </p:nvSpPr>
          <p:spPr>
            <a:xfrm>
              <a:off x="8648640" y="4495680"/>
              <a:ext cx="1800" cy="10666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8000640" y="5592600"/>
              <a:ext cx="64764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8029440" y="4008600"/>
            <a:ext cx="733680" cy="487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Find Similar Reactions in same/other db’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DB78-1AFB-4E65-9D2B-29BD728638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23441" t="12502" r="0" b="11453"/>
          <a:stretch/>
        </p:blipFill>
        <p:spPr>
          <a:xfrm>
            <a:off x="1143000" y="1143000"/>
            <a:ext cx="7467480" cy="55627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4108320" y="1644480"/>
            <a:ext cx="4807080" cy="95004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CG Omega"/>
              </a:rPr>
              <a:t>Markush Reaction Display*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G Omega"/>
              </a:rPr>
              <a:t>[*available for patents published Dec 2003 onwards]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3" name=""/>
          <p:cNvSpPr/>
          <p:nvPr/>
        </p:nvSpPr>
        <p:spPr>
          <a:xfrm>
            <a:off x="1144440" y="2654280"/>
            <a:ext cx="6247080" cy="2217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984480" y="5378400"/>
            <a:ext cx="4365360" cy="783000"/>
            <a:chOff x="3984480" y="5378400"/>
            <a:chExt cx="4365360" cy="783000"/>
          </a:xfrm>
        </p:grpSpPr>
        <p:sp>
          <p:nvSpPr>
            <p:cNvPr id="315" name=""/>
            <p:cNvSpPr/>
            <p:nvPr/>
          </p:nvSpPr>
          <p:spPr>
            <a:xfrm>
              <a:off x="5134680" y="5378400"/>
              <a:ext cx="3215160" cy="78300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Location in Patent*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984480" y="5522760"/>
              <a:ext cx="11779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144440" y="5437080"/>
            <a:ext cx="2772000" cy="201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8" name=""/>
          <p:cNvSpPr/>
          <p:nvPr/>
        </p:nvSpPr>
        <p:spPr>
          <a:xfrm>
            <a:off x="1033920" y="457200"/>
            <a:ext cx="5445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arkush Reaction Displa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1A3AC-11FC-42FF-8967-766DB1E10F44}" type="slidenum">
              <a:t>19</a:t>
            </a:fld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the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52388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B0F2E-B306-4922-B56D-0C5B8A1B3EB9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474920"/>
            <a:ext cx="853452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1.6 million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9900"/>
                </a:solidFill>
                <a:latin typeface="CG Omega"/>
                <a:ea typeface="Times New Roman"/>
              </a:rPr>
              <a:t>with data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9900"/>
                </a:solidFill>
                <a:latin typeface="CG Omega"/>
                <a:ea typeface="Times New Roman"/>
              </a:rPr>
              <a:t>~800,000 Compound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Compounds rarely covered elsewhere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774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800,000 Prophetic Compounds since 1976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could be made analogously to given method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have a structure, but no data associated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normally only accessible via Markush Structure Search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7D0D-B2E9-4F20-B062-1BF757B29A6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76320" y="1905120"/>
            <a:ext cx="8915400" cy="4876560"/>
            <a:chOff x="76320" y="1905120"/>
            <a:chExt cx="8915400" cy="4876560"/>
          </a:xfrm>
        </p:grpSpPr>
        <p:grpSp>
          <p:nvGrpSpPr>
            <p:cNvPr id="322" name=""/>
            <p:cNvGrpSpPr/>
            <p:nvPr/>
          </p:nvGrpSpPr>
          <p:grpSpPr>
            <a:xfrm>
              <a:off x="76320" y="1905120"/>
              <a:ext cx="8915400" cy="4876560"/>
              <a:chOff x="76320" y="1905120"/>
              <a:chExt cx="8915400" cy="487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6320" y="4724280"/>
                <a:ext cx="2209680" cy="20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324" name="" descr=""/>
              <p:cNvPicPr/>
              <p:nvPr/>
            </p:nvPicPr>
            <p:blipFill>
              <a:blip r:embed="rId1"/>
              <a:srcRect l="13290" t="27071" r="13290" b="18753"/>
              <a:stretch/>
            </p:blipFill>
            <p:spPr>
              <a:xfrm>
                <a:off x="195120" y="1905120"/>
                <a:ext cx="8796600" cy="4725720"/>
              </a:xfrm>
              <a:prstGeom prst="rect">
                <a:avLst/>
              </a:prstGeom>
              <a:ln w="9360">
                <a:solidFill>
                  <a:srgbClr val="ff9121"/>
                </a:solidFill>
                <a:miter/>
              </a:ln>
            </p:spPr>
          </p:pic>
        </p:grpSp>
        <p:sp>
          <p:nvSpPr>
            <p:cNvPr id="325" name=""/>
            <p:cNvSpPr/>
            <p:nvPr/>
          </p:nvSpPr>
          <p:spPr>
            <a:xfrm>
              <a:off x="254160" y="5357880"/>
              <a:ext cx="853416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1300" spc="-1" strike="noStrike">
                  <a:solidFill>
                    <a:srgbClr val="000066"/>
                  </a:solidFill>
                  <a:latin typeface="Arial"/>
                </a:rPr>
                <a:t>The following compounds could be prepared according to the similar procedure as Preparation 2 above</a:t>
              </a:r>
              <a:endParaRPr b="0" lang="en-US" sz="13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371600" y="573120"/>
            <a:ext cx="76201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bstance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7" name=""/>
          <p:cNvSpPr/>
          <p:nvPr/>
        </p:nvSpPr>
        <p:spPr>
          <a:xfrm>
            <a:off x="138240" y="1371600"/>
            <a:ext cx="8727840" cy="4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7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9121"/>
                </a:solidFill>
                <a:latin typeface="CG Omega"/>
                <a:ea typeface="Times New Roman"/>
              </a:rPr>
              <a:t>Prophetic Compound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5120" y="1924200"/>
            <a:ext cx="8796600" cy="3362040"/>
            <a:chOff x="195120" y="1924200"/>
            <a:chExt cx="8796600" cy="3362040"/>
          </a:xfrm>
        </p:grpSpPr>
        <p:sp>
          <p:nvSpPr>
            <p:cNvPr id="329" name=""/>
            <p:cNvSpPr/>
            <p:nvPr/>
          </p:nvSpPr>
          <p:spPr>
            <a:xfrm>
              <a:off x="195120" y="1924200"/>
              <a:ext cx="8796600" cy="336204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11640" y="4114800"/>
              <a:ext cx="540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ff9121"/>
                  </a:solidFill>
                  <a:latin typeface="Arial"/>
                </a:rPr>
                <a:t>Compounds with data (e.g. yield, spectra)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95120" y="5286240"/>
            <a:ext cx="8796600" cy="1344600"/>
            <a:chOff x="195120" y="5286240"/>
            <a:chExt cx="8796600" cy="1344600"/>
          </a:xfrm>
        </p:grpSpPr>
        <p:sp>
          <p:nvSpPr>
            <p:cNvPr id="332" name=""/>
            <p:cNvSpPr/>
            <p:nvPr/>
          </p:nvSpPr>
          <p:spPr>
            <a:xfrm>
              <a:off x="7069680" y="5689440"/>
              <a:ext cx="1793880" cy="75276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Prophetic 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Compounds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5120" y="5286240"/>
              <a:ext cx="8796600" cy="1344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1E015-6B33-4275-BDDC-FD1B9A6177F0}" type="slidenum">
              <a:t>21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1371600"/>
            <a:ext cx="825012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24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f9122"/>
                </a:solidFill>
                <a:latin typeface="CG Omeg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 Better Bioactivity Profiling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Measured numerical bioactivity data (e.g. IC50, EC50)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Toxicology &amp; metabolism data, application &amp; formulation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Data export to</a:t>
            </a:r>
            <a:r>
              <a:rPr b="1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structure-activity-relationship table (SAR)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Many </a:t>
            </a: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Predefined Export Formats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Definition of own export formats and user-views possible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Substance profiles: 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A substance record accumulates data from different patents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1FF7B-8255-4C42-974D-8AF8798AF6C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46160" y="1143000"/>
            <a:ext cx="8589600" cy="5287680"/>
            <a:chOff x="146160" y="1143000"/>
            <a:chExt cx="8589600" cy="528768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rcRect l="47289" t="37801" r="2326" b="16686"/>
            <a:stretch/>
          </p:blipFill>
          <p:spPr>
            <a:xfrm>
              <a:off x="146160" y="1278720"/>
              <a:ext cx="8384760" cy="51519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339" name="" descr=""/>
            <p:cNvPicPr/>
            <p:nvPr/>
          </p:nvPicPr>
          <p:blipFill>
            <a:blip r:embed="rId2"/>
            <a:srcRect l="2326" t="64576" r="76562" b="7285"/>
            <a:stretch/>
          </p:blipFill>
          <p:spPr>
            <a:xfrm>
              <a:off x="6448320" y="1143000"/>
              <a:ext cx="2287440" cy="221868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340" name=""/>
          <p:cNvSpPr/>
          <p:nvPr/>
        </p:nvSpPr>
        <p:spPr>
          <a:xfrm>
            <a:off x="111240" y="2117880"/>
            <a:ext cx="4155840" cy="50472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17440" y="4908600"/>
            <a:ext cx="3740400" cy="1087920"/>
            <a:chOff x="3817440" y="4908600"/>
            <a:chExt cx="3740400" cy="1087920"/>
          </a:xfrm>
        </p:grpSpPr>
        <p:sp>
          <p:nvSpPr>
            <p:cNvPr id="342" name=""/>
            <p:cNvSpPr/>
            <p:nvPr/>
          </p:nvSpPr>
          <p:spPr>
            <a:xfrm>
              <a:off x="4968000" y="4908600"/>
              <a:ext cx="2589840" cy="108792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Location in Patent*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817440" y="5253480"/>
              <a:ext cx="117756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240" y="5110200"/>
            <a:ext cx="3671640" cy="30168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5" name=""/>
          <p:cNvSpPr/>
          <p:nvPr/>
        </p:nvSpPr>
        <p:spPr>
          <a:xfrm>
            <a:off x="1132200" y="496800"/>
            <a:ext cx="58554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Numerical Bioactivity Data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6" name=""/>
          <p:cNvSpPr/>
          <p:nvPr/>
        </p:nvSpPr>
        <p:spPr>
          <a:xfrm>
            <a:off x="2333160" y="645480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DEB6-7233-4394-8227-F6412059750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99960" y="546120"/>
            <a:ext cx="93286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193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100" spc="-1" strike="noStrike">
                <a:solidFill>
                  <a:srgbClr val="ff9121"/>
                </a:solidFill>
                <a:latin typeface="CG Omega"/>
              </a:rPr>
              <a:t>Export to Structure-Activity-Relationship Table</a:t>
            </a:r>
            <a:endParaRPr b="0" lang="en-US" sz="31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rcRect l="3127" t="16666" r="1562" b="9376"/>
          <a:stretch/>
        </p:blipFill>
        <p:spPr>
          <a:xfrm>
            <a:off x="228600" y="1268280"/>
            <a:ext cx="86868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349" name=""/>
          <p:cNvSpPr/>
          <p:nvPr/>
        </p:nvSpPr>
        <p:spPr>
          <a:xfrm>
            <a:off x="2593800" y="5943600"/>
            <a:ext cx="3954960" cy="463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redefined Export Form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1B36-0ECC-4972-8BF4-2373A62A873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Substance Profil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25003" t="12502" r="1562" b="8333"/>
          <a:stretch/>
        </p:blipFill>
        <p:spPr>
          <a:xfrm>
            <a:off x="1828800" y="1225440"/>
            <a:ext cx="6210360" cy="5023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2"/>
          <a:srcRect l="783" t="61461" r="75784" b="14584"/>
          <a:stretch/>
        </p:blipFill>
        <p:spPr>
          <a:xfrm>
            <a:off x="6095880" y="685800"/>
            <a:ext cx="2286000" cy="175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796680" y="6019920"/>
            <a:ext cx="8613000" cy="429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A substance record accumulates data from different patent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B4A7-6607-4662-B8FF-2841AF67C1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3429000"/>
            <a:ext cx="7315200" cy="167652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4DFE-93F3-45A2-8A72-229E86E3B869}" type="slidenum">
              <a:t>26</a:t>
            </a:fld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22120" y="1878120"/>
          <a:ext cx="8692920" cy="4141800"/>
        </p:xfrm>
        <a:graphic>
          <a:graphicData uri="http://schemas.openxmlformats.org/drawingml/2006/table">
            <a:tbl>
              <a:tblPr/>
              <a:tblGrid>
                <a:gridCol w="1417680"/>
                <a:gridCol w="1933560"/>
                <a:gridCol w="293400"/>
                <a:gridCol w="1633680"/>
                <a:gridCol w="222120"/>
                <a:gridCol w="1633680"/>
                <a:gridCol w="1558800"/>
              </a:tblGrid>
              <a:tr h="5558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 related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covery Knowledge Datab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 vend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52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hemistry Data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Prou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ciFi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C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480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Re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,5 Mio structure-searchable reactio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rom ~340.000 patents since 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JSM: ~9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PORE: ~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ynthesis of &gt;5,000 selected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known number taken from ~ 70,000 patents since 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Re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imental 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20">
                <a:tc gridSpan="7">
                  <a:txBody>
                    <a:bodyPr lIns="82080" rIns="82080" tIns="41040" bIns="4104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00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laims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1373040" y="237960"/>
            <a:ext cx="769464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Aft>
                <a:spcPts val="2500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Synergies with other Databases 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4000" spc="-1" strike="noStrike">
                <a:solidFill>
                  <a:srgbClr val="ff9121"/>
                </a:solidFill>
                <a:latin typeface="CG Omega"/>
              </a:rPr>
              <a:t>- Reactions</a:t>
            </a:r>
            <a:endParaRPr b="0" lang="en-US" sz="4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0" name=""/>
          <p:cNvSpPr/>
          <p:nvPr/>
        </p:nvSpPr>
        <p:spPr>
          <a:xfrm>
            <a:off x="7096320" y="640080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G Omega"/>
              </a:rPr>
              <a:t>Status: June 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D94B-7104-4388-AE67-51014A5CD8E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11240" y="1219320"/>
          <a:ext cx="8921520" cy="5089320"/>
        </p:xfrm>
        <a:graphic>
          <a:graphicData uri="http://schemas.openxmlformats.org/drawingml/2006/table">
            <a:tbl>
              <a:tblPr/>
              <a:tblGrid>
                <a:gridCol w="1387800"/>
                <a:gridCol w="1906920"/>
                <a:gridCol w="200160"/>
                <a:gridCol w="1819440"/>
                <a:gridCol w="2080800"/>
                <a:gridCol w="278280"/>
                <a:gridCol w="1248120"/>
              </a:tblGrid>
              <a:tr h="447480"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ound related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4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covery Knowledge Datab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 vend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56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“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hemistry Database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rwent WPI / DCR in  Compound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ciF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C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7756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,5 M from Org.Chem. Patents since 1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507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elected tar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ince 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50,000 bioactive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known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ber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Millions) from all areas of chemistry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ince 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ophetic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8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in M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in MARPA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016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Proper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easured numerical Bioactivity Data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EC50,  LD50 et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pplication, formulation, spectral &amp; physical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High Value Thesaurus for bioactivity and dise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High value thesaurus for therapeutic groups and diseases, drug Profi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ntrolled vocabulary for compound properties, calculated and measured physical data, no numerical bioactivity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1295280" y="162000"/>
            <a:ext cx="7772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Synergies with other Databases 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4" name=""/>
          <p:cNvSpPr/>
          <p:nvPr/>
        </p:nvSpPr>
        <p:spPr>
          <a:xfrm>
            <a:off x="7096320" y="640080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G Omega"/>
              </a:rPr>
              <a:t>Status: June 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8401-75C0-4B51-8D5C-AD6EC919617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67" name=""/>
          <p:cNvSpPr/>
          <p:nvPr/>
        </p:nvSpPr>
        <p:spPr>
          <a:xfrm>
            <a:off x="1295280" y="510552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14C7-014A-4794-A5D4-3BC73EEE2E4D}" type="slidenum">
              <a:t>29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86000" y="4694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</a:t>
            </a:r>
            <a:r>
              <a:rPr b="1" lang="en-US" sz="3200" spc="-1" strike="noStrike">
                <a:solidFill>
                  <a:srgbClr val="ff9121"/>
                </a:solidFill>
                <a:latin typeface="Symbol"/>
                <a:ea typeface="Symbol"/>
              </a:rPr>
              <a:t>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86000" y="1344240"/>
            <a:ext cx="782784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8120" indent="0">
              <a:spcAft>
                <a:spcPts val="825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CG Omega"/>
              </a:rPr>
              <a:t>What is it?</a:t>
            </a:r>
            <a:endParaRPr b="0" lang="en-US" sz="3300" spc="-1" strike="noStrike">
              <a:solidFill>
                <a:srgbClr val="808080"/>
              </a:solidFill>
              <a:latin typeface="CG Omega"/>
            </a:endParaRPr>
          </a:p>
          <a:p>
            <a:pPr marL="438120" indent="-43812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A new structure-searchable CrossFire database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mainly for end-users, but with interesting features for information professionals also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exing chemical reactions, substances and substance related information from Chemistry and LifeScience patents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(World, U.S. and European) since 1976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808080"/>
                </a:solidFill>
                <a:latin typeface="CG Omega"/>
              </a:rPr>
              <a:t>addressing the following business critical issues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100" spc="-1" strike="noStrike">
                <a:solidFill>
                  <a:srgbClr val="ff9900"/>
                </a:solidFill>
                <a:latin typeface="CG Omega"/>
              </a:rPr>
              <a:t>Mo</a:t>
            </a: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re effective synthesis plann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Better bioactivity profil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Easy patent relevance check</a:t>
            </a:r>
            <a:br>
              <a:rPr sz="2100"/>
            </a:b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 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marL="438120" indent="-43812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300" spc="-1" strike="noStrike">
                <a:solidFill>
                  <a:srgbClr val="ff9900"/>
                </a:solidFill>
                <a:latin typeface="CG Omega"/>
              </a:rPr>
              <a:t>Integrated with other data sources on DiscoveryGate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4E95-E0E9-4E74-8788-D8FF63D4951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69640" y="573120"/>
            <a:ext cx="360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echnical Detail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9" name=""/>
          <p:cNvSpPr/>
          <p:nvPr/>
        </p:nvSpPr>
        <p:spPr>
          <a:xfrm>
            <a:off x="1406520" y="1147680"/>
            <a:ext cx="7737480" cy="57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Database for use with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rossFire Direc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74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in-house CrossFire Server [d</a:t>
            </a:r>
            <a:r>
              <a:rPr b="0" lang="en-GB" sz="2000" spc="-1" strike="noStrike">
                <a:solidFill>
                  <a:srgbClr val="808080"/>
                </a:solidFill>
                <a:latin typeface="CG Omega"/>
              </a:rPr>
              <a:t>elivery via tape, FTP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iscoveryGate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2" marL="1119960" indent="-223920">
              <a:spcAft>
                <a:spcPts val="337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Database Browser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1119960" indent="-223920">
              <a:spcAft>
                <a:spcPts val="337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CompoundIndex (May 2005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Size and Anticipated Yearly Growth</a:t>
            </a:r>
            <a:br>
              <a:rPr sz="1900"/>
            </a:br>
            <a:r>
              <a:rPr b="1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1.5 Million  reactions</a:t>
            </a:r>
            <a:r>
              <a:rPr b="0" lang="en-GB" sz="1900" spc="-1" strike="noStrike">
                <a:solidFill>
                  <a:srgbClr val="dddddd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dddddd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500,000 reactions/year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1.6 Million substances 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800,000 substances/year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340,000 citations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  35,000 citations/yea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Updates / Timelines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Bi-weekly updates on CrossFire Direct and DatabaseBrows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900"/>
                </a:solidFill>
                <a:latin typeface="CG Omega"/>
              </a:rPr>
              <a:t>Semi-automatically indexed patents already 2 weeks after publication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 incl. front-page, claims, many reactions, compounds and physical data 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Fully indexed record a few weeks later incl. Markush structures/ reactions and bioactivity data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A578-7894-42BC-97D7-11F3C0ADB84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762120" y="3048120"/>
            <a:ext cx="6553080" cy="1171440"/>
            <a:chOff x="762120" y="3048120"/>
            <a:chExt cx="6553080" cy="1171440"/>
          </a:xfrm>
        </p:grpSpPr>
        <p:sp>
          <p:nvSpPr>
            <p:cNvPr id="371" name=""/>
            <p:cNvSpPr/>
            <p:nvPr/>
          </p:nvSpPr>
          <p:spPr>
            <a:xfrm>
              <a:off x="762120" y="3048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2120" y="38098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2160" y="3400560"/>
              <a:ext cx="1937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G Omega"/>
                </a:rPr>
                <a:t>After ~2 weeks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95480" y="3352680"/>
              <a:ext cx="4419720" cy="86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emi-automatical indexed record in db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G Omega"/>
                </a:rPr>
                <a:t>Front-page, claims, many compounds, 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G Omega"/>
                </a:rPr>
                <a:t>many reactions, physical data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048120" y="5975280"/>
            <a:ext cx="609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*</a:t>
            </a: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In the first year after release some manual indexed records may be delayed as final productivity has not been reached yet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23280" y="1800360"/>
            <a:ext cx="7464960" cy="1206360"/>
            <a:chOff x="323280" y="1800360"/>
            <a:chExt cx="7464960" cy="1206360"/>
          </a:xfrm>
        </p:grpSpPr>
        <p:sp>
          <p:nvSpPr>
            <p:cNvPr id="377" name=""/>
            <p:cNvSpPr/>
            <p:nvPr/>
          </p:nvSpPr>
          <p:spPr>
            <a:xfrm>
              <a:off x="323280" y="2181240"/>
              <a:ext cx="17794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G Omega"/>
                </a:rPr>
                <a:t>Patent 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G Omega"/>
                </a:rPr>
                <a:t>Publication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7960" y="1800360"/>
              <a:ext cx="7010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960" y="1800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52600" y="533520"/>
            <a:ext cx="7462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Update Process – Final Database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895480" y="4191120"/>
            <a:ext cx="5959440" cy="1675440"/>
            <a:chOff x="2895480" y="4191120"/>
            <a:chExt cx="5959440" cy="1675440"/>
          </a:xfrm>
        </p:grpSpPr>
        <p:grpSp>
          <p:nvGrpSpPr>
            <p:cNvPr id="382" name=""/>
            <p:cNvGrpSpPr/>
            <p:nvPr/>
          </p:nvGrpSpPr>
          <p:grpSpPr>
            <a:xfrm>
              <a:off x="2895480" y="4639320"/>
              <a:ext cx="5959440" cy="1227240"/>
              <a:chOff x="2895480" y="4639320"/>
              <a:chExt cx="5959440" cy="1227240"/>
            </a:xfrm>
          </p:grpSpPr>
          <p:sp>
            <p:nvSpPr>
              <p:cNvPr id="383" name=""/>
              <p:cNvSpPr/>
              <p:nvPr/>
            </p:nvSpPr>
            <p:spPr>
              <a:xfrm>
                <a:off x="5181480" y="4639320"/>
                <a:ext cx="3673440" cy="12272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Manual indexed record in db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More reactions/compounds,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Markush structures/reactions,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Bioactivity/application data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95480" y="523332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27880" y="4753080"/>
                <a:ext cx="20307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CG Omega"/>
                  </a:rPr>
                  <a:t>Goal: ~ 2 weeks</a:t>
                </a:r>
                <a:endParaRPr b="0" lang="en-US" sz="20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895480" y="419112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FDA53-CBDA-4032-95E2-9A74FCDE08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8" name=""/>
          <p:cNvSpPr/>
          <p:nvPr/>
        </p:nvSpPr>
        <p:spPr>
          <a:xfrm>
            <a:off x="1452600" y="533520"/>
            <a:ext cx="7462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dded Value Content by tim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9" name=""/>
          <p:cNvSpPr/>
          <p:nvPr/>
        </p:nvSpPr>
        <p:spPr>
          <a:xfrm>
            <a:off x="-159840" y="6176880"/>
            <a:ext cx="94176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66"/>
                </a:solidFill>
                <a:latin typeface="CG Omega"/>
              </a:rPr>
              <a:t>*Publication &lt; Dec 2003 : Selected reactions (which have data) &amp; selected substances </a:t>
            </a:r>
            <a:r>
              <a:rPr b="1" lang="de-DE" sz="1300" spc="-1" strike="noStrike">
                <a:solidFill>
                  <a:srgbClr val="ff6600"/>
                </a:solidFill>
                <a:latin typeface="CG Omega"/>
              </a:rPr>
              <a:t>including prophetic compounds </a:t>
            </a:r>
            <a:endParaRPr b="0" lang="en-US" sz="1300" spc="-1" strike="noStrike">
              <a:solidFill>
                <a:srgbClr val="000000"/>
              </a:solidFill>
              <a:latin typeface="CG Omega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66"/>
                </a:solidFill>
                <a:latin typeface="CG Omega"/>
              </a:rPr>
              <a:t>*Publication &gt;= Dec 2003: All compounds/reactions with data; </a:t>
            </a:r>
            <a:r>
              <a:rPr b="1" lang="de-DE" sz="1300" spc="-1" strike="noStrike">
                <a:solidFill>
                  <a:srgbClr val="ff6600"/>
                </a:solidFill>
                <a:latin typeface="CG Omega"/>
              </a:rPr>
              <a:t>selected prophetic compounds &amp; analogous reactions</a:t>
            </a:r>
            <a:endParaRPr b="0" lang="en-US" sz="1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0" name=""/>
          <p:cNvSpPr/>
          <p:nvPr/>
        </p:nvSpPr>
        <p:spPr>
          <a:xfrm>
            <a:off x="1752480" y="1295280"/>
            <a:ext cx="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1" name=""/>
          <p:cNvSpPr/>
          <p:nvPr/>
        </p:nvSpPr>
        <p:spPr>
          <a:xfrm>
            <a:off x="1755000" y="1322280"/>
            <a:ext cx="372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76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mi-automatically indexed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2" name=""/>
          <p:cNvSpPr/>
          <p:nvPr/>
        </p:nvSpPr>
        <p:spPr>
          <a:xfrm>
            <a:off x="5725440" y="1322280"/>
            <a:ext cx="327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 200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anually indexed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4" name=""/>
          <p:cNvSpPr/>
          <p:nvPr/>
        </p:nvSpPr>
        <p:spPr>
          <a:xfrm>
            <a:off x="152280" y="1219320"/>
            <a:ext cx="167652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ublication Yea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6" name=""/>
          <p:cNvSpPr/>
          <p:nvPr/>
        </p:nvSpPr>
        <p:spPr>
          <a:xfrm>
            <a:off x="563868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1752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04920" y="2133720"/>
          <a:ext cx="8839080" cy="3889080"/>
        </p:xfrm>
        <a:graphic>
          <a:graphicData uri="http://schemas.openxmlformats.org/drawingml/2006/table">
            <a:tbl>
              <a:tblPr/>
              <a:tblGrid>
                <a:gridCol w="1447200"/>
                <a:gridCol w="3963240"/>
                <a:gridCol w="3428640"/>
              </a:tblGrid>
              <a:tr h="11595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itations</a:t>
                      </a: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 </a:t>
                      </a:r>
                      <a:br>
                        <a:rPr sz="1500"/>
                      </a:b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ibliographic Data, IPC, Title, Abstract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Claim Tex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Structure Disp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Reaction Disp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7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Reactions*</a:t>
                      </a:r>
                      <a:br>
                        <a:rPr sz="1500"/>
                      </a:b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action Scheme (structure searchable), </a:t>
                      </a: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Example Text, InfoChem Class Codes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Reaction Display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7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Substances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pectral Data (Signals) &amp; Phys. Data 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Prophetic Compoun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Structure Display 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Application &amp; Formulation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Bioactivity Data (e.g. IC50)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etabolism, Toxicity (LD5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C32B-606C-45AD-ACF1-CA9FDBC3E67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rcRect l="0" t="4814" r="0" b="87503"/>
          <a:stretch/>
        </p:blipFill>
        <p:spPr>
          <a:xfrm>
            <a:off x="380880" y="1552680"/>
            <a:ext cx="8458200" cy="504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00" name=""/>
          <p:cNvSpPr/>
          <p:nvPr/>
        </p:nvSpPr>
        <p:spPr>
          <a:xfrm>
            <a:off x="5562720" y="1857240"/>
            <a:ext cx="609480" cy="152640"/>
          </a:xfrm>
          <a:prstGeom prst="rect">
            <a:avLst/>
          </a:prstGeom>
          <a:noFill/>
          <a:ln w="381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1" name=""/>
          <p:cNvSpPr/>
          <p:nvPr/>
        </p:nvSpPr>
        <p:spPr>
          <a:xfrm>
            <a:off x="988920" y="496800"/>
            <a:ext cx="6774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lert Service – to stay up-to-dat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981080" y="2249640"/>
            <a:ext cx="6782040" cy="4051080"/>
            <a:chOff x="1981080" y="2249640"/>
            <a:chExt cx="6782040" cy="4051080"/>
          </a:xfrm>
        </p:grpSpPr>
        <p:pic>
          <p:nvPicPr>
            <p:cNvPr id="403" name="" descr=""/>
            <p:cNvPicPr/>
            <p:nvPr/>
          </p:nvPicPr>
          <p:blipFill>
            <a:blip r:embed="rId2"/>
            <a:srcRect l="23438" t="12502" r="783" b="48354"/>
            <a:stretch/>
          </p:blipFill>
          <p:spPr>
            <a:xfrm>
              <a:off x="1981080" y="2249640"/>
              <a:ext cx="6782040" cy="2627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404" name="" descr=""/>
            <p:cNvPicPr/>
            <p:nvPr/>
          </p:nvPicPr>
          <p:blipFill>
            <a:blip r:embed="rId3"/>
            <a:srcRect l="23438" t="75651" r="783" b="5409"/>
            <a:stretch/>
          </p:blipFill>
          <p:spPr>
            <a:xfrm>
              <a:off x="1981080" y="5029200"/>
              <a:ext cx="6782040" cy="12715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405" name=""/>
          <p:cNvGrpSpPr/>
          <p:nvPr/>
        </p:nvGrpSpPr>
        <p:grpSpPr>
          <a:xfrm>
            <a:off x="54720" y="3946680"/>
            <a:ext cx="8784360" cy="2377800"/>
            <a:chOff x="54720" y="3946680"/>
            <a:chExt cx="8784360" cy="2377800"/>
          </a:xfrm>
        </p:grpSpPr>
        <p:sp>
          <p:nvSpPr>
            <p:cNvPr id="406" name=""/>
            <p:cNvSpPr/>
            <p:nvPr/>
          </p:nvSpPr>
          <p:spPr>
            <a:xfrm>
              <a:off x="1905120" y="4952880"/>
              <a:ext cx="6933960" cy="1371600"/>
            </a:xfrm>
            <a:prstGeom prst="rect">
              <a:avLst/>
            </a:prstGeom>
            <a:noFill/>
            <a:ln w="1908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54720" y="3946680"/>
              <a:ext cx="1864080" cy="1616040"/>
              <a:chOff x="54720" y="3946680"/>
              <a:chExt cx="1864080" cy="1616040"/>
            </a:xfrm>
          </p:grpSpPr>
          <p:sp>
            <p:nvSpPr>
              <p:cNvPr id="408" name=""/>
              <p:cNvSpPr/>
              <p:nvPr/>
            </p:nvSpPr>
            <p:spPr>
              <a:xfrm>
                <a:off x="54720" y="3946680"/>
                <a:ext cx="1864080" cy="844200"/>
              </a:xfrm>
              <a:prstGeom prst="rect">
                <a:avLst/>
              </a:prstGeom>
              <a:solidFill>
                <a:srgbClr val="ff9121"/>
              </a:solidFill>
              <a:ln w="19080">
                <a:solidFill>
                  <a:srgbClr val="ff91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Alert 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Conditions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90720" y="5562720"/>
                <a:ext cx="609480" cy="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0720" y="4876920"/>
                <a:ext cx="0" cy="68580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B81F-A3D2-4EBC-8242-E27AAF74AA6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CrossFire Commander 7.0 SP1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344600"/>
            <a:ext cx="91440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7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CG Omega"/>
              </a:rPr>
              <a:t>For CrossFire users of MDL Patent Chemistry Database is recommended: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17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CG Omega"/>
              </a:rPr>
              <a:t>CrossFire Commander 7.0 </a:t>
            </a:r>
            <a:r>
              <a:rPr b="1" lang="en-GB" sz="2200" spc="-1" strike="noStrike" u="sng">
                <a:solidFill>
                  <a:srgbClr val="ff9900"/>
                </a:solidFill>
                <a:uFillTx/>
                <a:latin typeface="CG Omega"/>
              </a:rPr>
              <a:t>SP1</a:t>
            </a:r>
            <a:r>
              <a:rPr b="1" lang="en-GB" sz="2200" spc="-1" strike="noStrike">
                <a:solidFill>
                  <a:srgbClr val="ff9900"/>
                </a:solidFill>
                <a:latin typeface="CG Omega"/>
              </a:rPr>
              <a:t>  (=</a:t>
            </a:r>
            <a:r>
              <a:rPr b="1" lang="de-DE" sz="2200" spc="-1" strike="noStrike" u="sng">
                <a:solidFill>
                  <a:srgbClr val="ff9900"/>
                </a:solidFill>
                <a:uFillTx/>
                <a:latin typeface="CG Omega"/>
              </a:rPr>
              <a:t>“patent-enabled“</a:t>
            </a:r>
            <a:r>
              <a:rPr b="1" lang="de-DE" sz="2200" spc="-1" strike="noStrike">
                <a:solidFill>
                  <a:srgbClr val="ff9900"/>
                </a:solidFill>
                <a:latin typeface="CG Omega"/>
              </a:rPr>
              <a:t> Commander 7)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38240" y="2286000"/>
          <a:ext cx="8797680" cy="4376880"/>
        </p:xfrm>
        <a:graphic>
          <a:graphicData uri="http://schemas.openxmlformats.org/drawingml/2006/table">
            <a:tbl>
              <a:tblPr/>
              <a:tblGrid>
                <a:gridCol w="2147760"/>
                <a:gridCol w="6649920"/>
              </a:tblGrid>
              <a:tr h="1397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7.0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SP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Recommended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for MDL Patent Chemistry Databa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= Standard-version Commander 7 </a:t>
                      </a: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plus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</a:t>
                      </a: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add. patent-specific files</a:t>
                      </a:r>
                      <a:br>
                        <a:rPr sz="1700"/>
                      </a:b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(help files, predefined export formats, predefined user views, predefined search forms (PDS=former ED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8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7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Usable, but not recommended 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for MDL Patent Chemistry DB  </a:t>
                      </a: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Additional features compared to Commander 6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Markush display, grouping sorting, Find Similar Reactions, handling of long texts, MDL Standard Look&amp;Feel similar to D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Not usable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for MDL Patent Chemistry Database as the following features are mssing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Markush Display, Grouping/Sorting, Find Similar Reactions, Handling of long texts (claim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4428-E642-47FF-B03D-47BC8AA5B5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556272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785B-4953-4CA7-94BD-B3E034E092CB}" type="slidenum">
              <a:t>35</a:t>
            </a:fld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04920" y="1143000"/>
          <a:ext cx="8610480" cy="5610240"/>
        </p:xfrm>
        <a:graphic>
          <a:graphicData uri="http://schemas.openxmlformats.org/drawingml/2006/table">
            <a:tbl>
              <a:tblPr/>
              <a:tblGrid>
                <a:gridCol w="1371600"/>
                <a:gridCol w="723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ore Effective Synthesis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1.5 Million Structure-Searchable 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trong growth anticipated: + 500,000 reactions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lete Experimental Se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InfoChem ClassCodes [Find/ Group Similar Reaction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rkush Reaction Display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Bioactivity Prof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1.6 Million Structure-Searchable Substan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trong growth anticipated: </a:t>
                      </a: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+ 800,000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800,000 Prophetic Compound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erical Bioactivity Data [Structure-Activity-Relationship-Table]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 Profiles: Properties &amp; reactions accumulated in one reco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lated Markush Structur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Identifier in Patent* &amp; 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Relevance Che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ull Claims Text – searchable together with structures/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/ Reaction Display* [Expanded Form: Substituent Lis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ined Substances related to a Markush structure* [“Representatives”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5383080" y="3048120"/>
            <a:ext cx="3684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G Omega"/>
              </a:rPr>
              <a:t>*For patents published Dec 2003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7D9B-4FCA-470B-8F5D-6BC769AC9AE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1219320"/>
          <a:ext cx="8610480" cy="5410080"/>
        </p:xfrm>
        <a:graphic>
          <a:graphicData uri="http://schemas.openxmlformats.org/drawingml/2006/table">
            <a:tbl>
              <a:tblPr/>
              <a:tblGrid>
                <a:gridCol w="1751040"/>
                <a:gridCol w="685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Bi-weekly Upd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emi-automatically indexed patents already 2 weeks after publication incl. front-page, claims, many compounds,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ny reactions and physical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Fully indexed record a few weeks later incl. Markush structures, Markush reactions and bioactivity/application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lert Service [Export/Import Alert Profil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ser-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Integ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ation into DiscoveryG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L Standard Look &amp; Fe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nd Similar Reactions in all MDL databases [InfoChem Class Cod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Grouping &amp; Sor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Query &amp; Hitset Hist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to Use: Find Field Name; Predefined Search For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t Search Mode: Command Language [STN Field Nam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edefined Export/Report Formats [List and Table View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xed User Fee [All-You-Can-Ea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cription; Alert included in Fixed F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F046-B876-4830-950C-FB1ED19944F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867280"/>
            <a:ext cx="7315200" cy="6098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74E9-BDC0-4244-B0E4-9317C1A3D6F9}" type="slidenum">
              <a:t>38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371600" y="1143000"/>
            <a:ext cx="7772400" cy="63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374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Large cost savings</a:t>
            </a:r>
            <a:r>
              <a:rPr b="1" lang="en-GB" sz="2000" spc="-1" strike="noStrike">
                <a:solidFill>
                  <a:srgbClr val="99cc00"/>
                </a:solidFill>
                <a:latin typeface="CG Omeg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Full-text access is seldom needed as claim text,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experimental section, numerical data are given and 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ompounds are correlated to their properties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Relevance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check of 1 patent (~15 min): 40 $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20 scientists/5 patents/week:</a:t>
            </a: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ff9121"/>
                </a:solidFill>
                <a:uFillTx/>
                <a:latin typeface="CG Omega"/>
                <a:ea typeface="Arial"/>
              </a:rPr>
              <a:t>160,000 $ savings/yea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G Omeg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ost-free Alert Service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Alert is included in fixed fe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No additional payments for documents/search tim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50 Alerts at an official host cost a company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about 100,000$/year</a:t>
            </a:r>
            <a:r>
              <a:rPr b="1" lang="en-GB" sz="2000" spc="-1" strike="noStrike">
                <a:solidFill>
                  <a:srgbClr val="000000"/>
                </a:solidFill>
                <a:latin typeface="CG Omeg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Fixed User Fee [“All-you-can-eat”]</a:t>
            </a:r>
            <a:br>
              <a:rPr sz="2000"/>
            </a:b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No Task Pricing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osts independent of search time and number of searches / document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8" name=""/>
          <p:cNvSpPr/>
          <p:nvPr/>
        </p:nvSpPr>
        <p:spPr>
          <a:xfrm>
            <a:off x="1013040" y="496800"/>
            <a:ext cx="6987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Value Analysis for ROI calculation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756E-C081-4B2A-B514-D5F5C1C9A3A2}" type="slidenum">
              <a:t>39</a:t>
            </a:fld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DBC3-8517-4D6B-B497-0049BF006AE7}" type="slidenum">
              <a:t>4</a:t>
            </a:fld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887400" y="2832120"/>
            <a:ext cx="729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66"/>
                </a:solidFill>
                <a:latin typeface="CG Omega"/>
              </a:rPr>
              <a:t>Many Thanks for Your Interest!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9122"/>
                </a:solidFill>
                <a:latin typeface="CG Omega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B8AD0-7BCD-4E51-9375-7991E0F82FF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350960" y="1295280"/>
            <a:ext cx="4716720" cy="5181840"/>
            <a:chOff x="4350960" y="1295280"/>
            <a:chExt cx="4716720" cy="5181840"/>
          </a:xfrm>
        </p:grpSpPr>
        <p:sp>
          <p:nvSpPr>
            <p:cNvPr id="114" name=""/>
            <p:cNvSpPr/>
            <p:nvPr/>
          </p:nvSpPr>
          <p:spPr>
            <a:xfrm>
              <a:off x="4419720" y="1295280"/>
              <a:ext cx="4647960" cy="5181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50960" y="1437120"/>
              <a:ext cx="366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CG Omega"/>
                </a:rPr>
                <a:t>DG today: 140,000 reactions from patents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97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Patent Chemistry Database - 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More Effective Synthesis Planning 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446040" y="1294920"/>
            <a:ext cx="471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ustomers request: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Make reactions from patents accessible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Many novel reactions published </a:t>
            </a:r>
            <a:r>
              <a:rPr b="0" i="1" lang="en-GB" sz="1800" spc="-1" strike="noStrike">
                <a:solidFill>
                  <a:srgbClr val="808080"/>
                </a:solidFill>
                <a:latin typeface="CG Omega"/>
              </a:rPr>
              <a:t>only</a:t>
            </a: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 in patents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Search State-of-the-Art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Review similar reactions in </a:t>
            </a:r>
            <a:br>
              <a:rPr sz="1800"/>
            </a:b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other MDL databases (via InfoChem ClassCodes)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Better synthesis planning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777280" y="5105520"/>
            <a:ext cx="2079000" cy="1336320"/>
            <a:chOff x="5777280" y="5105520"/>
            <a:chExt cx="2079000" cy="1336320"/>
          </a:xfrm>
        </p:grpSpPr>
        <p:grpSp>
          <p:nvGrpSpPr>
            <p:cNvPr id="119" name=""/>
            <p:cNvGrpSpPr/>
            <p:nvPr/>
          </p:nvGrpSpPr>
          <p:grpSpPr>
            <a:xfrm>
              <a:off x="6039360" y="5105520"/>
              <a:ext cx="1332000" cy="622800"/>
              <a:chOff x="6039360" y="5105520"/>
              <a:chExt cx="1332000" cy="622800"/>
            </a:xfrm>
          </p:grpSpPr>
          <p:sp>
            <p:nvSpPr>
              <p:cNvPr id="120" name=""/>
              <p:cNvSpPr/>
              <p:nvPr/>
            </p:nvSpPr>
            <p:spPr>
              <a:xfrm>
                <a:off x="6039360" y="5105520"/>
                <a:ext cx="1332000" cy="622800"/>
              </a:xfrm>
              <a:prstGeom prst="flowChartMagneticDisk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graphicFrame>
            <p:nvGraphicFramePr>
              <p:cNvPr id="121" name=""/>
              <p:cNvGraphicFramePr/>
              <p:nvPr/>
            </p:nvGraphicFramePr>
            <p:xfrm>
              <a:off x="6172560" y="5347800"/>
              <a:ext cx="1065600" cy="276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72560" y="5347800"/>
                        <a:ext cx="1065600" cy="2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23" name=""/>
            <p:cNvSpPr/>
            <p:nvPr/>
          </p:nvSpPr>
          <p:spPr>
            <a:xfrm>
              <a:off x="5777280" y="5810760"/>
              <a:ext cx="2079000" cy="6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G Omega"/>
                </a:rPr>
                <a:t>Patent Chemistry 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G Omega"/>
                </a:rPr>
                <a:t>Database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31600" y="1838160"/>
            <a:ext cx="4632840" cy="3189960"/>
            <a:chOff x="4431600" y="1838160"/>
            <a:chExt cx="4632840" cy="3189960"/>
          </a:xfrm>
        </p:grpSpPr>
        <p:grpSp>
          <p:nvGrpSpPr>
            <p:cNvPr id="125" name=""/>
            <p:cNvGrpSpPr/>
            <p:nvPr/>
          </p:nvGrpSpPr>
          <p:grpSpPr>
            <a:xfrm>
              <a:off x="5182560" y="1838160"/>
              <a:ext cx="2706840" cy="1272960"/>
              <a:chOff x="5182560" y="1838160"/>
              <a:chExt cx="2706840" cy="127296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5751720" y="1838160"/>
                <a:ext cx="1333800" cy="622440"/>
                <a:chOff x="5751720" y="1838160"/>
                <a:chExt cx="1333800" cy="6224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751720" y="1838160"/>
                  <a:ext cx="1333800" cy="62244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75001c"/>
                    </a:gs>
                    <a:gs pos="50000">
                      <a:srgbClr val="fe003e"/>
                    </a:gs>
                    <a:gs pos="100000">
                      <a:srgbClr val="75001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graphicFrame>
              <p:nvGraphicFramePr>
                <p:cNvPr id="128" name=""/>
                <p:cNvGraphicFramePr/>
                <p:nvPr/>
              </p:nvGraphicFramePr>
              <p:xfrm>
                <a:off x="5884920" y="2080080"/>
                <a:ext cx="1067040" cy="2764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9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884920" y="2080080"/>
                          <a:ext cx="1067040" cy="276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30" name=""/>
              <p:cNvSpPr/>
              <p:nvPr/>
            </p:nvSpPr>
            <p:spPr>
              <a:xfrm>
                <a:off x="5182560" y="2480040"/>
                <a:ext cx="2706840" cy="6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Synthetic Methodology 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Databases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067880" y="2827440"/>
              <a:ext cx="1996560" cy="2200680"/>
              <a:chOff x="7067880" y="2827440"/>
              <a:chExt cx="1996560" cy="2200680"/>
            </a:xfrm>
          </p:grpSpPr>
          <p:pic>
            <p:nvPicPr>
              <p:cNvPr id="13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472160" y="282744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7067880" y="4397040"/>
                <a:ext cx="1996560" cy="6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Major Reference 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Works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13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292880" y="334188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010000" y="308484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85720" y="352620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" name=""/>
            <p:cNvGrpSpPr/>
            <p:nvPr/>
          </p:nvGrpSpPr>
          <p:grpSpPr>
            <a:xfrm>
              <a:off x="4431600" y="2827440"/>
              <a:ext cx="2132280" cy="2029680"/>
              <a:chOff x="4431600" y="2827440"/>
              <a:chExt cx="2132280" cy="20296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4431600" y="2827440"/>
                <a:ext cx="2132280" cy="2029680"/>
                <a:chOff x="4431600" y="2827440"/>
                <a:chExt cx="2132280" cy="20296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431600" y="4500360"/>
                  <a:ext cx="2132280" cy="35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CG Omega"/>
                    </a:rPr>
                    <a:t>Primary Litera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pic>
              <p:nvPicPr>
                <p:cNvPr id="14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492800" y="282744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35360" y="359856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111280" y="348840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968360" y="293760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96160" y="3603960"/>
                <a:ext cx="8478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Synthesis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5413680" y="3314520"/>
                <a:ext cx="854280" cy="84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6" name=""/>
          <p:cNvSpPr/>
          <p:nvPr/>
        </p:nvSpPr>
        <p:spPr>
          <a:xfrm>
            <a:off x="-40680" y="4608360"/>
            <a:ext cx="4556880" cy="186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MDL’s answer: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1.5 Million Reactions (1976 onwards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Complete Reaction Descrip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Structure searchable Reactions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incl. Reagents &amp; Solvent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InfoChem ClassCod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99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Markush Reaction Display </a:t>
            </a:r>
            <a:r>
              <a:rPr b="0" lang="en-GB" sz="1600" spc="-1" strike="noStrike">
                <a:solidFill>
                  <a:srgbClr val="000066"/>
                </a:solidFill>
                <a:latin typeface="CG Omega"/>
              </a:rPr>
              <a:t>(Dec 2003-)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6700-D323-4D68-8A7F-2CD39265F3EA}" type="slidenum">
              <a:t>5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82400" y="191880"/>
            <a:ext cx="776124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121"/>
                </a:solidFill>
                <a:latin typeface="CG Omega"/>
              </a:rPr>
              <a:t>Patent Chemistry Database -</a:t>
            </a:r>
            <a:br>
              <a:rPr sz="2800"/>
            </a:br>
            <a:r>
              <a:rPr b="1" lang="en-GB" sz="2800" spc="-1" strike="noStrike">
                <a:solidFill>
                  <a:srgbClr val="ff9121"/>
                </a:solidFill>
                <a:latin typeface="CG Omega"/>
              </a:rPr>
              <a:t>Better Bioactivity Profiling / Property Data</a:t>
            </a:r>
            <a:endParaRPr b="1" lang="en-US" sz="28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522576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ustomers request: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Include structures and data from patents, including prophetic compounds, to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arch State-of-the-Art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Develop pharmacological profile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Design combinatorial librarie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lect and optimize lead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Competitor Watch 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ustry trend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481800" y="2517840"/>
            <a:ext cx="2627280" cy="1816200"/>
            <a:chOff x="6481800" y="2517840"/>
            <a:chExt cx="2627280" cy="1816200"/>
          </a:xfrm>
        </p:grpSpPr>
        <p:sp>
          <p:nvSpPr>
            <p:cNvPr id="151" name="Puzzle2"/>
            <p:cNvSpPr/>
            <p:nvPr/>
          </p:nvSpPr>
          <p:spPr>
            <a:xfrm>
              <a:off x="6481800" y="2517840"/>
              <a:ext cx="2627280" cy="181620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79560" y="3182040"/>
              <a:ext cx="1099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“ </a:t>
              </a: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Patent 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Chemistry”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12680" y="4419720"/>
            <a:ext cx="4154400" cy="319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MDL’s answer: 1.6 million compound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Prophetic Compounds (&gt;20%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Markush Structure Display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Property data       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Spectral &amp; Physical Data (logP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Formulation*, Application*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74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Bioactivity* (EC/IC50)</a:t>
            </a: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                             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          </a:t>
            </a:r>
            <a:r>
              <a:rPr b="0" lang="en-GB" sz="1200" spc="-1" strike="noStrike">
                <a:solidFill>
                  <a:srgbClr val="000066"/>
                </a:solidFill>
                <a:latin typeface="CG Omega"/>
              </a:rPr>
              <a:t>* Patents published Dec 2003 onwards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1066680"/>
            <a:ext cx="5176440" cy="4345920"/>
            <a:chOff x="3429000" y="1066680"/>
            <a:chExt cx="5176440" cy="4345920"/>
          </a:xfrm>
        </p:grpSpPr>
        <p:grpSp>
          <p:nvGrpSpPr>
            <p:cNvPr id="155" name=""/>
            <p:cNvGrpSpPr/>
            <p:nvPr/>
          </p:nvGrpSpPr>
          <p:grpSpPr>
            <a:xfrm>
              <a:off x="3429000" y="1066680"/>
              <a:ext cx="5176440" cy="3749400"/>
              <a:chOff x="3429000" y="1066680"/>
              <a:chExt cx="5176440" cy="3749400"/>
            </a:xfrm>
          </p:grpSpPr>
          <p:sp>
            <p:nvSpPr>
              <p:cNvPr id="156" name="Puzzle2"/>
              <p:cNvSpPr/>
              <p:nvPr/>
            </p:nvSpPr>
            <p:spPr>
              <a:xfrm>
                <a:off x="3429000" y="2531880"/>
                <a:ext cx="2628000" cy="1813680"/>
              </a:xfrm>
              <a:prstGeom prst="pi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26240" y="3175920"/>
                <a:ext cx="146196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Prous, Derwent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Current Drugs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8" name="Puzzle3"/>
              <p:cNvSpPr/>
              <p:nvPr/>
            </p:nvSpPr>
            <p:spPr>
              <a:xfrm>
                <a:off x="6959160" y="1066680"/>
                <a:ext cx="1646280" cy="19918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9" name="Puzzle4"/>
              <p:cNvSpPr/>
              <p:nvPr/>
            </p:nvSpPr>
            <p:spPr>
              <a:xfrm>
                <a:off x="5463720" y="2495160"/>
                <a:ext cx="1583280" cy="232092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0" name="Puzzle1"/>
              <p:cNvSpPr/>
              <p:nvPr/>
            </p:nvSpPr>
            <p:spPr>
              <a:xfrm>
                <a:off x="4919760" y="1668600"/>
                <a:ext cx="2661480" cy="138384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74120" y="2255760"/>
                <a:ext cx="826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Beilstein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68840" y="1729080"/>
                <a:ext cx="1097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etabolite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Toxicity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43440" y="3193920"/>
                <a:ext cx="1105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DDR, CMC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4" name="Puzzle3"/>
              <p:cNvSpPr/>
              <p:nvPr/>
            </p:nvSpPr>
            <p:spPr>
              <a:xfrm>
                <a:off x="6959160" y="1066680"/>
                <a:ext cx="1646280" cy="19918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5" name="Puzzle4"/>
              <p:cNvSpPr/>
              <p:nvPr/>
            </p:nvSpPr>
            <p:spPr>
              <a:xfrm>
                <a:off x="5463720" y="2495160"/>
                <a:ext cx="1584720" cy="232092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6" name="Puzzle1"/>
              <p:cNvSpPr/>
              <p:nvPr/>
            </p:nvSpPr>
            <p:spPr>
              <a:xfrm>
                <a:off x="4919760" y="1668600"/>
                <a:ext cx="2661480" cy="138384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85960" y="2255760"/>
                <a:ext cx="159588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CrossFire Beilstein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68840" y="1729080"/>
                <a:ext cx="1097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etabolite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Toxicity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42360" y="3193920"/>
                <a:ext cx="1105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DDR, CMC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529240" y="4952880"/>
              <a:ext cx="23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G Omega"/>
                </a:rPr>
                <a:t>DiscoveryGate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4011D-51C4-4EDB-942A-36601B8B4BD5}" type="slidenum">
              <a:t>6</a:t>
            </a:fld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5760" y="53316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 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1457280"/>
            <a:ext cx="7772400" cy="44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62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MDL Patent Chemistry Database is the first database</a:t>
            </a:r>
            <a:br>
              <a:rPr sz="2300"/>
            </a:b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for end-users to index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62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not only reactions and compounds </a:t>
            </a:r>
            <a:r>
              <a:rPr b="0" lang="en-GB" sz="2300" spc="-1" strike="noStrike" u="sng">
                <a:solidFill>
                  <a:srgbClr val="808080"/>
                </a:solidFill>
                <a:uFillTx/>
                <a:latin typeface="CG Omega"/>
              </a:rPr>
              <a:t>with</a:t>
            </a: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 data,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ff9121"/>
                </a:solidFill>
                <a:latin typeface="CG Omega"/>
              </a:rPr>
              <a:t>but also prophetic compounds and analogous reactions 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rom 28 years of Patent Chemist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the </a:t>
            </a: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complete experimental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(example section)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or reactions from patent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the </a:t>
            </a: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claims text with display of main Markush* structures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for easy relevance check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measured numerical bioactivity* data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from patent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0">
              <a:spcAft>
                <a:spcPts val="825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0">
              <a:spcAft>
                <a:spcPts val="825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3" name=""/>
          <p:cNvSpPr/>
          <p:nvPr/>
        </p:nvSpPr>
        <p:spPr>
          <a:xfrm>
            <a:off x="856440" y="5867280"/>
            <a:ext cx="8366400" cy="474840"/>
          </a:xfrm>
          <a:prstGeom prst="rect">
            <a:avLst/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121"/>
                </a:solidFill>
                <a:latin typeface="CG Omega"/>
              </a:rPr>
              <a:t>Reactions,</a:t>
            </a:r>
            <a:r>
              <a:rPr b="0" lang="en-US" sz="2500" spc="-1" strike="noStrike">
                <a:solidFill>
                  <a:srgbClr val="99cc00"/>
                </a:solidFill>
                <a:latin typeface="CG Omega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CG Omega"/>
              </a:rPr>
              <a:t>Substances and related Data and more ...   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4" name=""/>
          <p:cNvSpPr/>
          <p:nvPr/>
        </p:nvSpPr>
        <p:spPr>
          <a:xfrm>
            <a:off x="5794560" y="545472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CG Omega"/>
              </a:rPr>
              <a:t>*From December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A1857-F1EE-439E-9420-C261C2F3DB2D}" type="slidenum">
              <a:t>7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438280"/>
            <a:ext cx="7315200" cy="9144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A5B6-5C9C-4A53-99DC-E9EB68266AB1}" type="slidenum">
              <a:t>8</a:t>
            </a:fld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1219320"/>
            <a:ext cx="7696080" cy="45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6000"/>
          </a:bodyPr>
          <a:p>
            <a:pPr marL="389160" indent="-389160"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International Patent Classes [IPC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7</a:t>
            </a: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Organic Chemistry*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61K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Drugs [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Medicinal, Dental, Cosmetic Preparations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01N</a:t>
            </a:r>
            <a:r>
              <a:rPr b="0" lang="en-GB" sz="20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Biocides [Agrochemicals, Disinfectants, etc.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9B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Dyes [can be pharmacological active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* Polymers indexed from 2004 onwards, when mentioned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  in these 4 IPC’s (e. g. formulations)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Bef>
                <a:spcPts val="1500"/>
              </a:spcBef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Patent Agenci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World (WO), United States (US), European (EP) patents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rom Publication Year 1976 onwar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Japanese and German patents in discussion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urther patent countries according to customer nee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0160" y="533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Content and Coverag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285E-C500-43B6-85A6-FED28913389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6:33:25Z</dcterms:created>
  <dc:creator>Eva Seip</dc:creator>
  <dc:description/>
  <dc:language>en-US</dc:language>
  <cp:lastModifiedBy>Eva Seip</cp:lastModifiedBy>
  <dcterms:modified xsi:type="dcterms:W3CDTF">2004-12-06T10:43:55Z</dcterms:modified>
  <cp:revision>340</cp:revision>
  <dc:subject>Database Pre-Release Evaluation 2004</dc:subject>
  <dc:title>Patent Chemistry Databas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1259557</vt:r8>
  </property>
  <property fmtid="{D5CDD505-2E9C-101B-9397-08002B2CF9AE}" pid="3" name="_AuthorEmail">
    <vt:lpwstr>P.McHale@mdl.com</vt:lpwstr>
  </property>
  <property fmtid="{D5CDD505-2E9C-101B-9397-08002B2CF9AE}" pid="4" name="_AuthorEmailDisplayName">
    <vt:lpwstr>Phil McHale</vt:lpwstr>
  </property>
  <property fmtid="{D5CDD505-2E9C-101B-9397-08002B2CF9AE}" pid="5" name="_EmailSubject">
    <vt:lpwstr>SKO Presentation review</vt:lpwstr>
  </property>
</Properties>
</file>