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DC79-A4BA-4C03-AB1C-AA8B10442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8217-3B23-49CD-BFF1-69B7031A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E3E5-4FAC-4C42-B4AC-A073FEA7D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63DE-F739-430F-868E-553B868CF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C718-B626-4A11-939E-43546DFB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AA8A-8610-46F5-B503-EDC8BA81A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38FF-DB74-4ABC-90BD-1E0316F44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44C4-4562-405C-9885-C213438B3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919F-CC64-4B16-BB86-1176E46F8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9964-882E-426D-A698-C794CFF6D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0398-39E5-4B1A-AC0B-53FE8C21B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1785-FBFB-47E5-A40A-2747ABA08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3242-ADF9-49C6-BA8E-079537D26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BC94-BC40-44A9-9EC5-032293E9F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E527-F2F4-4169-AFF6-1292909F1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AC1A-E7DD-4D17-BB15-9C9DDF407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7A5B-89E6-4071-A86D-F805EC006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CC85-1F5B-48CB-B89E-DB985D692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969A7-50CE-4702-977B-D6E3ECF05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D0F7E-12F9-446F-AF6C-1902DAF8D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9849-10F7-4174-AF5A-354EFDE25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D577-E950-4263-8DAE-865789068D28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" name=""/>
          <p:cNvSpPr/>
          <p:nvPr/>
        </p:nvSpPr>
        <p:spPr>
          <a:xfrm>
            <a:off x="1297440" y="65469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CG Omega"/>
              </a:rPr>
              <a:t>- Confidential -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5621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9625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Positioning, Content, Competitive Advantage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[Confidential]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27-Octo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8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18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19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19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19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0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C513-DE38-4847-A353-C95C978792AB}" type="slidenum">
              <a:t>10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214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(other)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52F2-3F45-46DA-9BE7-60FF2274BE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219320"/>
            <a:ext cx="7467480" cy="5562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108320" y="1720800"/>
            <a:ext cx="465480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* Reaction Display</a:t>
            </a:r>
            <a:br>
              <a:rPr sz="2500"/>
            </a:b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 for patents published December 2003 -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1144440" y="273060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984480" y="5454720"/>
            <a:ext cx="4365360" cy="783000"/>
            <a:chOff x="3984480" y="5454720"/>
            <a:chExt cx="4365360" cy="783000"/>
          </a:xfrm>
        </p:grpSpPr>
        <p:sp>
          <p:nvSpPr>
            <p:cNvPr id="222" name=""/>
            <p:cNvSpPr/>
            <p:nvPr/>
          </p:nvSpPr>
          <p:spPr>
            <a:xfrm>
              <a:off x="5134680" y="545472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984480" y="559908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44440" y="551340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5" name=""/>
          <p:cNvSpPr/>
          <p:nvPr/>
        </p:nvSpPr>
        <p:spPr>
          <a:xfrm>
            <a:off x="1052280" y="53352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9F2D-BDFA-4C1F-AE44-173BC39B8BDD}" type="slidenum">
              <a:t>12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7" name=""/>
          <p:cNvSpPr/>
          <p:nvPr/>
        </p:nvSpPr>
        <p:spPr>
          <a:xfrm>
            <a:off x="665280" y="1565280"/>
            <a:ext cx="82501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1375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2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1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Numerical bioactivity data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8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Indexing of compounds not covered elsewhere:</a:t>
            </a:r>
            <a:br>
              <a:rPr sz="2200"/>
            </a:b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Indexing of Prophetic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20-25 % more compounds than in other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A3ED-BC4E-4094-81CD-845D2992692A}" type="slidenum">
              <a:t>13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229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230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231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232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236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239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6596-2F29-4947-8075-C55F91E17219}" type="slidenum">
              <a:t>14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245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247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091160" y="496800"/>
            <a:ext cx="563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4849920" y="6485040"/>
            <a:ext cx="408600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C5CA-792A-4C23-83F0-C266D551402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86760" y="268200"/>
            <a:ext cx="5425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spcAft>
                <a:spcPts val="181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55 Roman"/>
                <a:ea typeface="Times New Roman"/>
              </a:rPr>
              <a:t>EASY-TO-USE EXPORT-WIZARD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3" name=""/>
          <p:cNvSpPr/>
          <p:nvPr/>
        </p:nvSpPr>
        <p:spPr>
          <a:xfrm>
            <a:off x="960120" y="496800"/>
            <a:ext cx="8139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ort to Structure-Activity-Table (SAR)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10DC-22F6-44B0-B51F-5C068581602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802800" y="6019920"/>
            <a:ext cx="8259480" cy="764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is a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CG Omega"/>
              </a:rPr>
              <a:t>substance profile</a:t>
            </a: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 accumulating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multiple properties and reactions (from different patent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65C0-77EC-4269-9471-469CF72D7B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1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CrossFire format 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iscoveryGate implement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atabaseBrowser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ompound Index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Semi-automatically indexed patents with frontpage, claims, many reactions and physical data already 2 weeks after public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incl. Markush structures/reactions and bioactivity data a few weeks lat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trong Yearly Growth anticipated:</a:t>
            </a:r>
            <a:br>
              <a:rPr sz="1900"/>
            </a:b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compound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patent citation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8AB8-62A5-4230-9744-278EBAEAB4F1}" type="slidenum">
              <a:t>1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4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67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269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271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B154-AC0B-4FE9-8DA7-6ACC368CB58E}" type="slidenum">
              <a:t>19</a:t>
            </a:fld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86000" y="1868400"/>
            <a:ext cx="7827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Integrated with other data sources on DiscoveryGate soon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(mid 2005)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7" name=""/>
          <p:cNvSpPr/>
          <p:nvPr/>
        </p:nvSpPr>
        <p:spPr>
          <a:xfrm>
            <a:off x="1258560" y="1233360"/>
            <a:ext cx="2361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42E5-4218-4545-9437-A281521142C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3FE0-2209-4C31-81D8-F4F8FFB00A4E}" type="slidenum">
              <a:t>20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with frontpage, claim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compounds, reactions and phys. data already 2 weeks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fter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incl. Markush structures, Markush reactions and bioactivity data a few weeks l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 (so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Reaction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arch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ophisticat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F59A-E9F1-49EE-91BB-F79F5BB9A903}" type="slidenum">
              <a:t>21</a:t>
            </a:fld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5289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407160" indent="-407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42760" indent="-33300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D3E4-9BEF-4182-B499-080D5C87AC8D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s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2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2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2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C7E3-B75D-475E-805E-AEEABB0541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9" name=""/>
          <p:cNvSpPr/>
          <p:nvPr/>
        </p:nvSpPr>
        <p:spPr>
          <a:xfrm>
            <a:off x="1386000" y="1441440"/>
            <a:ext cx="781344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Main Markush structures 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d main Markush Reactions*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Defined 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compounds related to Markush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asy relevance check without time consuming access to original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0FDB-5159-4819-A2B5-AE373B9FB9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0" name=""/>
          <p:cNvSpPr/>
          <p:nvPr/>
        </p:nvSpPr>
        <p:spPr>
          <a:xfrm>
            <a:off x="7473240" y="5346720"/>
            <a:ext cx="130500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3" name=""/>
          <p:cNvSpPr/>
          <p:nvPr/>
        </p:nvSpPr>
        <p:spPr>
          <a:xfrm>
            <a:off x="2725560" y="640080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3214-079D-4741-B718-BC522CECB64F}" type="slidenum">
              <a:t>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15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16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4" name=""/>
          <p:cNvSpPr/>
          <p:nvPr/>
        </p:nvSpPr>
        <p:spPr>
          <a:xfrm>
            <a:off x="847080" y="496800"/>
            <a:ext cx="8434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5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B86F-3AF9-4868-8860-38F7454553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17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86320" y="228600"/>
            <a:ext cx="8403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6D26-A0D8-4857-8B05-BE5557FF81A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0" name=""/>
          <p:cNvSpPr/>
          <p:nvPr/>
        </p:nvSpPr>
        <p:spPr>
          <a:xfrm>
            <a:off x="1386000" y="1295280"/>
            <a:ext cx="7813440" cy="63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62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Link to Similar Reactions in all other MDL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808080"/>
              </a:buClr>
              <a:buFont typeface="CG Omega"/>
              <a:buChar char="•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99cc00"/>
              </a:buClr>
              <a:buFont typeface="Wingdings" charset="2"/>
              <a:buChar char="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0928-9F88-443F-9329-D79228B0493F}" type="slidenum">
              <a:t>9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0-28T10:33:45Z</dcterms:modified>
  <cp:revision>269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